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F06B-05E4-4E39-8D2A-C954DFD7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50E65-2EF9-4BE6-9C53-84F77E99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C603DD-3CC8-4D80-BE6D-13BACE14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BB038C-6C10-4AC5-ACE6-E3C60262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87359D-9EC0-45BC-A2AF-6EEFF648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1AA875-4D57-4972-8193-82C8896F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D8949D-11A2-4BD4-B6EB-BCDC5F3A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1EF06A-7337-409F-9905-E9498650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6759FC-41BA-4619-8118-0D876F0F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58B39C-06C9-4EA8-B7DA-8816AE36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26487A-E538-432F-AA8F-BA779402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E40D7C-8E64-4D8D-B65F-9A43CE5E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800FE-8997-4758-AF8F-AC7351CA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C13795-A2B5-47E0-A515-C2F14529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4569D3-E036-433E-884B-FC8ADDDD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424C02-80ED-4168-A7D4-55D630E9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6524C4-807D-4AA3-8C75-506CA5AD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FC89FD-E62C-4762-A277-9CBAC81C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9ABCD4-6946-4970-9733-69CF7A0C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644A16-83D3-4401-8A6C-8D15A947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619057-5FA5-4526-930A-9E83EA6A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824223-CDE3-4AE2-B85D-8B0B8FEE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8572D7-B903-438E-A82A-818FFF5E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E27F-9C38-4D5B-9AC8-D2E1FCEF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9389BD-CFCE-4852-B3AD-6A581C8F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0C4A17-2226-45FF-9DF9-55B770AB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DD96F5-47BD-4CDC-BA7F-666EED89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3EF996-CF68-4372-8C2F-0AE2A02B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F154E8-747A-4BFB-B00A-10BC8DB9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724EF8-7418-4DB7-8C0C-7AEF8C21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77CFEC-B75E-4728-BE7B-4869A34C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A0DCA9-D27F-4258-8357-16D603BF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2DD88D-F3DF-4C88-8DE9-8ADDB37E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063602-CA60-471E-9C5D-59072CE0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96012-6D90-4F9E-88AB-36A11D0A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8EDD1E-3831-4FCC-8F18-BE1C3281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871942-C28F-4445-8F9E-325C0A94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FA34E1-A75E-4192-8BD1-E987C912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DD87F0-2EA6-468C-9823-4514D7A7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445342-D654-459F-9546-E9021FFD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DECF63-F513-4CAA-B017-592C2C5F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DD5010-DB03-47DA-B27A-0E4DA7FE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4A21ED-FACF-46EB-A94A-1EDB4724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94819F-0A94-4F45-AE71-F5A1545B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02E3E0-6356-43F2-BBC9-6250A8A9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77BDA-056E-49BE-A5D7-D82281FD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D5E980-447B-4643-BBA1-1433704D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543378-EA4C-4878-AB47-9710F221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3F402A-7A91-4DE0-9B54-8709EC6B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4022DB-0396-467A-963D-5C48D64A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7A8194-1DBB-4367-9C7D-0CEA4376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8BCE6A-598E-4122-B20B-9D01816E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CBC18E-7F4E-4998-A63B-B35D7DA7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FDFE90-20F6-40B0-A96C-93A690EA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FBEB69-5AF4-4580-AEC9-194B925B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18D628-F472-4375-9280-A24A990A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A0D53-A784-4A56-9A08-2C9DD3DC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327EB0-7A72-472B-977C-4D4446EA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2682E4-54D7-40E5-BD2B-18B0B35F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69F39F-FB55-425D-A97D-B0967124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7469A7-EAEC-4242-A0A0-B01D646F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D57173-C967-4E3A-97DE-AF4D4EE8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B1D6D2-1FB5-48AD-AAE6-4811DB88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ACFB24-1301-4EAB-9678-FD1B8D69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9FF03-F638-46F0-AEA1-82542469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56367-B182-4040-8837-7D35ECE3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0194BF-6A6E-487A-BD54-2EB8DB3A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659C1-1B00-44A4-BD82-F6793C2A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8F23B-C1B6-470D-B4F3-828D54E5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3631F-3C3F-4B4A-BBD4-511044E0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06F64C-54E7-45CC-B313-F9833E70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0652B-5828-4E48-A39B-927A2836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51B74-8F87-4073-8314-BEB6F419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6FF1E-72B6-4449-A9DF-A5090F9B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9F49A-B7A3-49E1-9C82-B5645E12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ABC42-44C2-4D0A-8DEC-8ECAE850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22518-896C-45F6-A673-728D430B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9DB8705-73A9-4687-9BF5-A6CC81AD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6C54D-220A-40E2-8FC7-77910449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63526D-CDC3-4F74-A99C-F96F0B68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7BC0DF4-3648-43A9-99F7-452C91F4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10C6CB-ABBC-4FC0-854E-2CE02552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F6EC37D-264B-4DF0-A18D-E6D55B7F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3F7C75-6E96-4270-A646-698B0401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2FB26AF-C9E7-427F-B980-6BAF975F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1893224-7F99-4C40-8F84-58787731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B7846B-55FF-42E9-937C-4BE48D02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477AC4-4ADB-491E-8B0F-0BC8AC0D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6866E6-EFE1-45E6-9FC7-8B49061A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57FF4-124C-4585-ADEA-A744EDD9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7F860EB-E357-4E74-80D1-8ED0447E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A0F24-B84A-4C4E-9A85-72CBC342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9DEF3-C336-4585-8DE2-967713A8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2C96E-0672-414E-87C7-67FEC8B8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8D64E-8DD1-4762-9F34-899087E6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355C7-48B2-4C0D-B505-CF47D7BC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8B7C4-BA06-484F-9A76-C4AD5DBF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99D46-B3E4-4659-958D-A3B1F992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E5638-617A-493E-B31F-155CAFB3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E93C-C626-4808-94C0-DA38A68A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AB831-CF1F-4675-A558-41F3827A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79DDC-5452-4895-B258-96E3E897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A9B18-51EF-4AAA-B1BD-9688D3BA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8610-FCB0-4100-916F-DF01C525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7E469-567E-4141-856C-E88D45D4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9386-6AA1-464A-9C60-DE9CCD9B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1555-9512-47D3-B2B7-BB075A14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08A3-0742-47F6-88D2-783337F8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4C60D-35B1-4E0C-9DCC-1B40A6CF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CCE52-3C92-4E5B-B570-E40A5AED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BA7AC-9DD2-4545-9147-36C4D4C9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F56FC0-F5A6-448A-8566-1B6EF401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99B61-160D-41B4-B9B0-21D3AD9B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C77BB5-3E8E-4AE3-B9D4-AE92CA2F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A1FC-F958-4F1A-910F-16EEC030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58F72-8664-4714-8E76-D5BE01F7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4AAFC9-5F09-49F6-A784-68BB614C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318080-63CA-4CB7-AC6E-6144238F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67803A-111F-4B59-9D5B-00CEEA5F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4B01FD-4D5B-4B5E-B3CC-AE4EA1FC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557F1-6A00-4EF1-8F4D-2FF84A76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7E3EA-3F10-43F0-BD01-1A0E7232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64A7D-67EE-4F70-B042-7381D20B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191E35-C385-425F-9E86-BD218C7D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8AA2D-7257-4370-9B72-5B431B3D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DA688-9597-4B14-81D8-8AA070C7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39EA3-C267-4681-B6A1-B4C0A7A0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ADBDA-CF5E-41A2-BFE8-75490880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8830D-E157-424A-ADBE-25BED1F1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DB6B5-36D1-4C3A-AC76-6406A5A2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CD1A4-13A0-4381-BB21-CC0E0DD0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150C10-CE88-4C81-878A-B541B9AB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D3989-8D4C-41FF-9B97-0CFA1A2B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ED0E93-CAE8-4C20-8490-CC2C7671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FFC0D-DED4-4CCA-B11A-0DB7BE11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6CD63-4EB4-4385-9DD1-352EDC84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F4F0C-A17C-49F7-8FA5-E144C6C7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582DB-20CB-4A70-A266-BDD88151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3BD0F9-4A0F-4AB8-B4F2-662B6616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9C33EA-B062-4073-BA3B-4AE85AD2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F9FBA-6F04-4643-AC8F-503AE932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B0A19-BF07-4154-84FA-876C1152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CBF8E9-C1AB-40A9-88E2-14282D9C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E5B0E8-FCD9-48CF-AD18-5932640D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29E91-17CC-4390-9778-AE89C042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C3CB62-8C97-4138-B1CA-50B16CA6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477E6-C136-482A-8C5A-5EF7575D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8308-55DC-4178-A3BA-2325F477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B7061-439B-4795-B636-6DDCB9EC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281B2D-A9AB-4602-9DD0-C2AD4546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2550B4-A6EE-4DBE-B04A-90B2D10E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F242D-8502-4791-B32A-4DBCEF62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CCE8CA-D29D-4678-9AC6-4F658833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185CDE-89D5-46C6-8B07-049FAD91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089B8A-E374-4A01-B404-F71F5B25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475B3-AB08-4CE8-BD5D-B09E33D1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1DFE0E-2B42-436A-94BB-3FF6B3B5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D28FBF-42A1-4E92-95B8-DCA852DB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43377-5FCF-415D-8E22-4A2F4EE7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9FE0F-75C4-49EC-8DE2-CB83D583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46E23-9C7E-456C-AFA0-C73D583C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0D6C4-6BB4-432C-950C-BD5AF7D4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820670-8C5D-4836-BD94-E70FAC15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2A9F7-697B-4A9E-8DD2-905D0C53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665A9B-69EE-4058-9A30-04FDDCF9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DCDAED-2345-4E59-AFEE-69C54222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5D468C-6CB1-41D1-87EB-C09AE1A5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6F9B71-3C5B-4817-B03D-FED1DC0E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A9D00-3DF6-4769-916D-682A58C1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A568-20CA-4817-BAF9-F2579436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B22188-4010-4B60-82C6-42A2A3E6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DD1E6E-C26C-4F4B-9AD3-20623F5B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553F92-316B-47BA-BB11-297C6E95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A57172-FAD7-48F8-ABA0-0426ABAF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C08001-C5C7-4F2D-9A8D-3E8262F0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4AE056-39A3-47FD-B726-C2EE19CC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716DA8-73B6-4BBE-8F28-37ECB850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4E450B-6C18-4AAE-9541-63FFDBCA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44FE62-A851-46E9-A18B-0FC05419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C7DEE4-20DD-479C-BB68-121C3383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7F6C-3BB4-47D0-8F50-CD2AE3544CF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E92C-1CE2-46B2-B97B-E727BE66663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4DD3-DDCD-48F1-B351-7A5A44AD056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EE89-6C58-4AEE-ADF9-10227F57100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13CB-08E0-43A9-B609-FC72A919F67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Conector reto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4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4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4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52A6-CE76-433D-B884-7522895EF746}" type="slidenum">
              <a:rPr b="0" lang="pt-BR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Conector reto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Conector reto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sldNum" idx="4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0910-B54C-4C05-A247-35BB27A551F8}" type="slidenum">
              <a:rPr b="0" lang="pt-BR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dt" idx="4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2DB5-A3FC-42D2-B3A4-ED651DFF4728}" type="slidenum">
              <a:rPr b="0" lang="pt-BR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DA2C-DE97-4FF7-A74F-15A93F25DD3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0B28-7DED-4A32-97D9-3AA097E1518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8563-545A-490F-9E7E-67912CD0E7E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7372-FFB3-4D84-A61D-93A0B34E094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FFED-C844-4E9B-A4C1-29BE5B6AA990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D100-E5AC-4CD9-8236-989A7845D7E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6978-A677-462B-A040-12D63F9ADC3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mailto:vanira@hernandesacoesesportivas.com.br" TargetMode="External"/><Relationship Id="rId3" Type="http://schemas.openxmlformats.org/officeDocument/2006/relationships/hyperlink" Target="mailto:vania-hernandes@hotmail.com" TargetMode="External"/><Relationship Id="rId4" Type="http://schemas.openxmlformats.org/officeDocument/2006/relationships/hyperlink" Target="http://lattes.cnpq.br/5060154719055619" TargetMode="External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CaixaDeTexto 2"/>
          <p:cNvSpPr/>
          <p:nvPr/>
        </p:nvSpPr>
        <p:spPr>
          <a:xfrm>
            <a:off x="468360" y="285264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erformance que o move, é a nossa maior inspi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ção e gestão de projetos desportivos, culturais e sociais. Leis de incentivo. Assessoria técnica e juríd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tângulo 9"/>
          <p:cNvSpPr/>
          <p:nvPr/>
        </p:nvSpPr>
        <p:spPr>
          <a:xfrm>
            <a:off x="738360" y="1700280"/>
            <a:ext cx="748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Pessoas Físicas podem deduzir até 6% do seu Imposto de Renda para investir em projetos aprov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m nossa legislação, as pessoas físicas que optam pela declaração do imposto de renda completa podem aproveitar os incentivos fiscais para doação apenas nos seguintes caso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oações aos fundos dos Direitos da Criança e do Adolescente (federal, estaduais e municipais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tinadas a projetos culturais e artísticos e audiovisu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tinadas a projetos despor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tângulo 5"/>
          <p:cNvSpPr/>
          <p:nvPr/>
        </p:nvSpPr>
        <p:spPr>
          <a:xfrm>
            <a:off x="755640" y="981000"/>
            <a:ext cx="741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PATROCÍNIO DE PESSOA FÍSICA PARA PROJETOS ESPOR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tângulo 1"/>
          <p:cNvSpPr/>
          <p:nvPr/>
        </p:nvSpPr>
        <p:spPr>
          <a:xfrm>
            <a:off x="755640" y="907920"/>
            <a:ext cx="756144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SEGMENTOS ESPOR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s recursos serão destinados a projetos desportivos que contemp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tividades sócio-desportivas educacionais, ao desporto e paradespor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centradas nas seguintes á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 - Área Educacional: projetos voltados como disciplina ou ativ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xtracurricular desportiva no âmbito da educação básica, fundament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édio e superior promovendo atividades no contra turno escol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bjetivando o desenvolvimento integral do indivídu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I -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Área de Formação Desportiva: projetos voltados para a iniciaçã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envolvimento motor geral de crianças e adolescentes por meio 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ática de atividades desportivas e físicas orientadas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tângulo 1"/>
          <p:cNvSpPr/>
          <p:nvPr/>
        </p:nvSpPr>
        <p:spPr>
          <a:xfrm>
            <a:off x="755640" y="836640"/>
            <a:ext cx="755964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SEGMENTOS ESPOR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II -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Área de Rendimento: projetos que finalizem a formação e iniciem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ndimento desportivo, de forma técnica e metodológica, na área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reinamento desportivo, atendendo equipes e atletas com idade ig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u superior a 14 anos, vinculadas a entidades de práticas desportivas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bjetivando a formação e especialização, inclusive de alto rendimento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V -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Área Sócio-Desportiva: projetos que utilizem o desporto co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erramenta de inserção social, propiciando as pessoas de baixa ren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portunidades para práticas desportiv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tângulo 1"/>
          <p:cNvSpPr/>
          <p:nvPr/>
        </p:nvSpPr>
        <p:spPr>
          <a:xfrm>
            <a:off x="755640" y="765000"/>
            <a:ext cx="755964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SEGMENTOS ESPOR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Área Participati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projetos voltados para ampla participação de pessoas em eve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portivos que evitem a seletividade e a hipercompetitividade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us  participantes, atendendo crianças, adolescentes, adultos, idos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essoas com deficiências, além de modalidades e respectivos públ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 sintetizematividades físicas representativas de valores da nos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dentidade cultur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projetos voltados à distribuição gratuita de ingressos para eve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 caráter desportivo e paradesportivo por pessoa jurídica,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tegrantes da rede publica de ensino ou a integrantes de comun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 vulnerabilidade social, devidamente comprovadas na fu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stação de co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tângulo 1"/>
          <p:cNvSpPr/>
          <p:nvPr/>
        </p:nvSpPr>
        <p:spPr>
          <a:xfrm>
            <a:off x="755640" y="765000"/>
            <a:ext cx="7559640" cy="47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SEGMENTOS ESPOR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VI -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Área de Gestão e Desenvolvimento Desportivo: projetos voltado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apacitação, treinamento, intercâmbios nacionais e internacionais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bolsas de treinamento, objetivando atender técnicos, atletas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gestores desportivos buscando desenvolver e aperfeiçoar a gest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obre a administração, técnicas e equipamentos desportiv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VII -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Área de Infraestrutura: projetos voltados à construção, reformas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dequação de espaços, equipamentos e instalações desportivas, des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 situados em próprios públic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Parágrafo único -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 É vedada a apresentação de projetos que preveja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cobrança de qualquer valor pecuniário aos beneficiário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CaixaDeTexto 3"/>
          <p:cNvSpPr/>
          <p:nvPr/>
        </p:nvSpPr>
        <p:spPr>
          <a:xfrm>
            <a:off x="784080" y="2273400"/>
            <a:ext cx="736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Não existe qualquer restrição quanto as modalidades esportivas, com exceção daquelas praticadas de modo profis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Todos os segmentos podem buscar os recursos incentivados (individual, coletiva, terrestre, aquática, hípica, motorizada, radical, de aventura, olímpica, não olímpica, paralímpica entre out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tângulo 2"/>
          <p:cNvSpPr/>
          <p:nvPr/>
        </p:nvSpPr>
        <p:spPr>
          <a:xfrm>
            <a:off x="784080" y="993600"/>
            <a:ext cx="76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MODALIDADE ESPORTIVA BENEFICI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CaixaDeTexto 3"/>
          <p:cNvSpPr/>
          <p:nvPr/>
        </p:nvSpPr>
        <p:spPr>
          <a:xfrm>
            <a:off x="781200" y="2189160"/>
            <a:ext cx="792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adeira de Rodas (basquete, bocha, tên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sporte para amputados (atletismo, artes marciais, mergulh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sporte para prejudicados da visão (futebol de salão, jud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sporte adaptados para paralisados cerbrais (ciclismo, hipism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etições próprias, como jogos Paralímpicos, e entidades específicas, como: Comitê Paralímpico Brasileiro (cpb) e Associação Desportiva para Deficientes (AD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tângulo 2"/>
          <p:cNvSpPr/>
          <p:nvPr/>
        </p:nvSpPr>
        <p:spPr>
          <a:xfrm>
            <a:off x="781200" y="1027080"/>
            <a:ext cx="76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ESPORTES ADAPTADOS</a:t>
            </a:r>
            <a:r>
              <a:rPr b="1" i="1" lang="en-US" sz="2400" spc="-1" strike="noStrike">
                <a:solidFill>
                  <a:srgbClr val="00007d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tângulo 2"/>
          <p:cNvSpPr/>
          <p:nvPr/>
        </p:nvSpPr>
        <p:spPr>
          <a:xfrm>
            <a:off x="781200" y="1657440"/>
            <a:ext cx="729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Prática esportiva para pessoas com deficiê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tângulo 2"/>
          <p:cNvSpPr/>
          <p:nvPr/>
        </p:nvSpPr>
        <p:spPr>
          <a:xfrm>
            <a:off x="750960" y="1366920"/>
            <a:ext cx="8039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  <a:ea typeface="Calibri"/>
              </a:rPr>
              <a:t>Projeto de arquitetura assinado pelo </a:t>
            </a:r>
            <a:r>
              <a:rPr b="0" lang="pt-BR" sz="2000" spc="-1" strike="noStrike">
                <a:solidFill>
                  <a:srgbClr val="0d0d0d"/>
                </a:solidFill>
                <a:latin typeface="Calibri"/>
                <a:ea typeface="Calibri"/>
              </a:rPr>
              <a:t>proprietário e responsável técnico, com respectivos cortes e planta de situ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  <a:ea typeface="Calibri"/>
              </a:rPr>
              <a:t>A critério do engenheiro, que analisará a viabilidade do projeto, e da Caixa Econômica Federal, responsável pela fiscalização e execução do mesmo, poderão ser exigidos projetos de instalação, estrutura e fund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  <a:ea typeface="Calibri"/>
              </a:rPr>
              <a:t>Orçamento detalhado (planilha de preços unitários), que use como referência os preços praticados pelo Sistema Nacional de Pesquisa de Custos e Índices da Construção Civil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  <a:ea typeface="Calibri"/>
              </a:rPr>
              <a:t>  da Caixa Econômica Fed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  <a:ea typeface="Calibri"/>
              </a:rPr>
              <a:t>Não é permitido preço unitário com valor estimado, exceto projetos com valor abaixo de R$500.000,00 (quinhentos mil re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d0d0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tângulo 2"/>
          <p:cNvSpPr/>
          <p:nvPr/>
        </p:nvSpPr>
        <p:spPr>
          <a:xfrm>
            <a:off x="750960" y="765000"/>
            <a:ext cx="59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PROJETOS DE INFRAESTRU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tângulo 2"/>
          <p:cNvSpPr/>
          <p:nvPr/>
        </p:nvSpPr>
        <p:spPr>
          <a:xfrm>
            <a:off x="709560" y="21798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tângulo 2"/>
          <p:cNvSpPr/>
          <p:nvPr/>
        </p:nvSpPr>
        <p:spPr>
          <a:xfrm>
            <a:off x="971640" y="853920"/>
            <a:ext cx="59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DOS PROJETOS DESPORTIVOS - 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tângulo de cantos arredondados 3"/>
          <p:cNvSpPr/>
          <p:nvPr/>
        </p:nvSpPr>
        <p:spPr>
          <a:xfrm>
            <a:off x="1252440" y="4076640"/>
            <a:ext cx="2089080" cy="8272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ESQU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Científica/Té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tângulo de cantos arredondados 11"/>
          <p:cNvSpPr/>
          <p:nvPr/>
        </p:nvSpPr>
        <p:spPr>
          <a:xfrm>
            <a:off x="6084720" y="4078440"/>
            <a:ext cx="2087640" cy="826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ENS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nstruir/Edu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tângulo de cantos arredondados 12"/>
          <p:cNvSpPr/>
          <p:nvPr/>
        </p:nvSpPr>
        <p:spPr>
          <a:xfrm>
            <a:off x="3627360" y="4565520"/>
            <a:ext cx="2089080" cy="8272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ST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Debate/Discuss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Pesquisa/Anál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tângulo de cantos arredondados 13"/>
          <p:cNvSpPr/>
          <p:nvPr/>
        </p:nvSpPr>
        <p:spPr>
          <a:xfrm>
            <a:off x="6084720" y="2627280"/>
            <a:ext cx="2087640" cy="8272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RÁ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tividade Espor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tângulo de cantos arredondados 14"/>
          <p:cNvSpPr/>
          <p:nvPr/>
        </p:nvSpPr>
        <p:spPr>
          <a:xfrm>
            <a:off x="1258920" y="2614680"/>
            <a:ext cx="2089080" cy="8269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DESENVOLV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Expandir/Ampli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tend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tângulo de cantos arredondados 15"/>
          <p:cNvSpPr/>
          <p:nvPr/>
        </p:nvSpPr>
        <p:spPr>
          <a:xfrm>
            <a:off x="3654360" y="1787400"/>
            <a:ext cx="2089080" cy="8272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MPLE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Executar/Prati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tângulo de cantos arredondados 16"/>
          <p:cNvSpPr/>
          <p:nvPr/>
        </p:nvSpPr>
        <p:spPr>
          <a:xfrm>
            <a:off x="3662280" y="3040200"/>
            <a:ext cx="2087640" cy="10364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PROJETO DESPOR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eta para baixo 4"/>
          <p:cNvSpPr/>
          <p:nvPr/>
        </p:nvSpPr>
        <p:spPr>
          <a:xfrm>
            <a:off x="4581360" y="4199040"/>
            <a:ext cx="209880" cy="26352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eta para baixo 18"/>
          <p:cNvSpPr/>
          <p:nvPr/>
        </p:nvSpPr>
        <p:spPr>
          <a:xfrm flipV="1">
            <a:off x="4594320" y="2775960"/>
            <a:ext cx="209520" cy="22212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eta para baixo 21"/>
          <p:cNvSpPr/>
          <p:nvPr/>
        </p:nvSpPr>
        <p:spPr>
          <a:xfrm flipV="1" rot="5400000">
            <a:off x="5868720" y="3635280"/>
            <a:ext cx="209520" cy="22212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eta para baixo 22"/>
          <p:cNvSpPr/>
          <p:nvPr/>
        </p:nvSpPr>
        <p:spPr>
          <a:xfrm flipV="1" rot="16200000">
            <a:off x="3346560" y="3598920"/>
            <a:ext cx="209880" cy="220680"/>
          </a:xfrm>
          <a:prstGeom prst="downArrow">
            <a:avLst>
              <a:gd name="adj1" fmla="val 50000"/>
              <a:gd name="adj2" fmla="val 499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upo 41"/>
          <p:cNvGrpSpPr/>
          <p:nvPr/>
        </p:nvGrpSpPr>
        <p:grpSpPr>
          <a:xfrm>
            <a:off x="539640" y="1052640"/>
            <a:ext cx="8183520" cy="4516200"/>
            <a:chOff x="539640" y="1052640"/>
            <a:chExt cx="8183520" cy="4516200"/>
          </a:xfrm>
        </p:grpSpPr>
        <p:sp>
          <p:nvSpPr>
            <p:cNvPr id="690" name="Retângulo 2"/>
            <p:cNvSpPr/>
            <p:nvPr/>
          </p:nvSpPr>
          <p:spPr>
            <a:xfrm>
              <a:off x="706320" y="1052640"/>
              <a:ext cx="762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7d"/>
                  </a:solidFill>
                  <a:latin typeface="Calibri"/>
                </a:rPr>
                <a:t>FLUXOGRAMA DE TRAMITAÇÃO DOS PROJETOS DESPORTIVO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tângulo de cantos arredondados 1"/>
            <p:cNvSpPr/>
            <p:nvPr/>
          </p:nvSpPr>
          <p:spPr>
            <a:xfrm>
              <a:off x="544320" y="1773360"/>
              <a:ext cx="1743120" cy="79200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laboração do Proje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tângulo de cantos arredondados 5"/>
            <p:cNvSpPr/>
            <p:nvPr/>
          </p:nvSpPr>
          <p:spPr>
            <a:xfrm>
              <a:off x="2711160" y="1773360"/>
              <a:ext cx="1743120" cy="79200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dastro do Proponente On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tângulo de cantos arredondados 6"/>
            <p:cNvSpPr/>
            <p:nvPr/>
          </p:nvSpPr>
          <p:spPr>
            <a:xfrm>
              <a:off x="4865400" y="1738440"/>
              <a:ext cx="1743120" cy="820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Conector reto 11"/>
            <p:cNvSpPr/>
            <p:nvPr/>
          </p:nvSpPr>
          <p:spPr>
            <a:xfrm>
              <a:off x="2417400" y="2241360"/>
              <a:ext cx="144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Conector reto 14"/>
            <p:cNvSpPr/>
            <p:nvPr/>
          </p:nvSpPr>
          <p:spPr>
            <a:xfrm>
              <a:off x="4578120" y="224136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6" name="Conector angulado 13"/>
            <p:cNvCxnSpPr/>
            <p:nvPr/>
          </p:nvCxnSpPr>
          <p:spPr>
            <a:xfrm flipV="1" rot="10800000">
              <a:off x="4487040" y="2564280"/>
              <a:ext cx="378360" cy="27828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7" name="Retângulo de cantos arredondados 15"/>
            <p:cNvSpPr/>
            <p:nvPr/>
          </p:nvSpPr>
          <p:spPr>
            <a:xfrm>
              <a:off x="2652480" y="270972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issã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éc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tângulo de cantos arredondados 21"/>
            <p:cNvSpPr/>
            <p:nvPr/>
          </p:nvSpPr>
          <p:spPr>
            <a:xfrm>
              <a:off x="539640" y="271476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cretari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ecu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9" name="Conector de seta reta 20"/>
            <p:cNvCxnSpPr/>
            <p:nvPr/>
          </p:nvCxnSpPr>
          <p:spPr>
            <a:xfrm flipH="1">
              <a:off x="2347560" y="2925360"/>
              <a:ext cx="2732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0" name="Retângulo de cantos arredondados 24"/>
            <p:cNvSpPr/>
            <p:nvPr/>
          </p:nvSpPr>
          <p:spPr>
            <a:xfrm>
              <a:off x="539640" y="3789360"/>
              <a:ext cx="1743120" cy="6490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ligência a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pon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1" name="Conector de seta reta 40"/>
            <p:cNvCxnSpPr/>
            <p:nvPr/>
          </p:nvCxnSpPr>
          <p:spPr>
            <a:xfrm>
              <a:off x="1331280" y="3450960"/>
              <a:ext cx="1080" cy="338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2" name="Conector de seta reta 42"/>
            <p:cNvCxnSpPr/>
            <p:nvPr/>
          </p:nvCxnSpPr>
          <p:spPr>
            <a:xfrm flipV="1">
              <a:off x="1634400" y="3450600"/>
              <a:ext cx="1080" cy="322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3" name="Conector de seta reta 44"/>
            <p:cNvCxnSpPr/>
            <p:nvPr/>
          </p:nvCxnSpPr>
          <p:spPr>
            <a:xfrm>
              <a:off x="2358720" y="3141360"/>
              <a:ext cx="2894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4" name="Conector de seta reta 46"/>
            <p:cNvCxnSpPr/>
            <p:nvPr/>
          </p:nvCxnSpPr>
          <p:spPr>
            <a:xfrm>
              <a:off x="3522240" y="3452400"/>
              <a:ext cx="1080" cy="338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5" name="Retângulo de cantos arredondados 47"/>
            <p:cNvSpPr/>
            <p:nvPr/>
          </p:nvSpPr>
          <p:spPr>
            <a:xfrm>
              <a:off x="2609640" y="3794040"/>
              <a:ext cx="1743120" cy="6490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l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Conector de seta reta 48"/>
            <p:cNvCxnSpPr/>
            <p:nvPr/>
          </p:nvCxnSpPr>
          <p:spPr>
            <a:xfrm>
              <a:off x="3480840" y="458136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7" name="Retângulo de cantos arredondados 49"/>
            <p:cNvSpPr/>
            <p:nvPr/>
          </p:nvSpPr>
          <p:spPr>
            <a:xfrm>
              <a:off x="2620800" y="492120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união de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t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8" name="Conector de seta reta 36879"/>
            <p:cNvCxnSpPr/>
            <p:nvPr/>
          </p:nvCxnSpPr>
          <p:spPr>
            <a:xfrm flipV="1">
              <a:off x="4395600" y="4114440"/>
              <a:ext cx="465840" cy="80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9" name="Retângulo de cantos arredondados 57"/>
            <p:cNvSpPr/>
            <p:nvPr/>
          </p:nvSpPr>
          <p:spPr>
            <a:xfrm>
              <a:off x="4951440" y="3470400"/>
              <a:ext cx="1743120" cy="64908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rovaçã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tângulo de cantos arredondados 58"/>
            <p:cNvSpPr/>
            <p:nvPr/>
          </p:nvSpPr>
          <p:spPr>
            <a:xfrm>
              <a:off x="4951440" y="419436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rovaçã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r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tângulo de cantos arredondados 59"/>
            <p:cNvSpPr/>
            <p:nvPr/>
          </p:nvSpPr>
          <p:spPr>
            <a:xfrm>
              <a:off x="4951440" y="492120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jei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2" name="Conector de seta reta 60"/>
            <p:cNvCxnSpPr/>
            <p:nvPr/>
          </p:nvCxnSpPr>
          <p:spPr>
            <a:xfrm flipV="1">
              <a:off x="4395240" y="4670640"/>
              <a:ext cx="470520" cy="250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3" name="Conector de seta reta 63"/>
            <p:cNvCxnSpPr>
              <a:endCxn id="711" idx="1"/>
            </p:cNvCxnSpPr>
            <p:nvPr/>
          </p:nvCxnSpPr>
          <p:spPr>
            <a:xfrm>
              <a:off x="4395240" y="4920840"/>
              <a:ext cx="556200" cy="324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14" name="Retângulo de cantos arredondados 69"/>
            <p:cNvSpPr/>
            <p:nvPr/>
          </p:nvSpPr>
          <p:spPr>
            <a:xfrm>
              <a:off x="6980040" y="3470400"/>
              <a:ext cx="1743120" cy="649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ublicaçã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tângulo de cantos arredondados 70"/>
            <p:cNvSpPr/>
            <p:nvPr/>
          </p:nvSpPr>
          <p:spPr>
            <a:xfrm>
              <a:off x="6980040" y="4518000"/>
              <a:ext cx="1743120" cy="64764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edido de Reconsider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tângulo de cantos arredondados 79"/>
            <p:cNvSpPr/>
            <p:nvPr/>
          </p:nvSpPr>
          <p:spPr>
            <a:xfrm>
              <a:off x="5711760" y="2719440"/>
              <a:ext cx="2460600" cy="6476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ocumentaçã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bertura C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Grupo 36"/>
            <p:cNvGrpSpPr/>
            <p:nvPr/>
          </p:nvGrpSpPr>
          <p:grpSpPr>
            <a:xfrm>
              <a:off x="5220720" y="3018240"/>
              <a:ext cx="422280" cy="353160"/>
              <a:chOff x="5220720" y="3018240"/>
              <a:chExt cx="422280" cy="353160"/>
            </a:xfrm>
          </p:grpSpPr>
          <p:sp>
            <p:nvSpPr>
              <p:cNvPr id="718" name="Conector reto 33"/>
              <p:cNvSpPr/>
              <p:nvPr/>
            </p:nvSpPr>
            <p:spPr>
              <a:xfrm flipV="1">
                <a:off x="5220720" y="3018600"/>
                <a:ext cx="0" cy="352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9" name="Conector de seta reta 35"/>
              <p:cNvCxnSpPr/>
              <p:nvPr/>
            </p:nvCxnSpPr>
            <p:spPr>
              <a:xfrm>
                <a:off x="5220720" y="3018240"/>
                <a:ext cx="4226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720" name="Grupo 39"/>
            <p:cNvGrpSpPr/>
            <p:nvPr/>
          </p:nvGrpSpPr>
          <p:grpSpPr>
            <a:xfrm>
              <a:off x="8195400" y="3018600"/>
              <a:ext cx="320040" cy="432360"/>
              <a:chOff x="8195400" y="3018600"/>
              <a:chExt cx="320040" cy="432360"/>
            </a:xfrm>
          </p:grpSpPr>
          <p:cxnSp>
            <p:nvCxnSpPr>
              <p:cNvPr id="721" name="Conector de seta reta 85"/>
              <p:cNvCxnSpPr/>
              <p:nvPr/>
            </p:nvCxnSpPr>
            <p:spPr>
              <a:xfrm>
                <a:off x="8494560" y="3018600"/>
                <a:ext cx="1080" cy="4327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722" name="Conector reto 87"/>
              <p:cNvSpPr/>
              <p:nvPr/>
            </p:nvSpPr>
            <p:spPr>
              <a:xfrm>
                <a:off x="8195400" y="3018600"/>
                <a:ext cx="32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Grupo 93"/>
            <p:cNvGrpSpPr/>
            <p:nvPr/>
          </p:nvGrpSpPr>
          <p:grpSpPr>
            <a:xfrm>
              <a:off x="6800760" y="4293720"/>
              <a:ext cx="620640" cy="225720"/>
              <a:chOff x="6800760" y="4293720"/>
              <a:chExt cx="620640" cy="225720"/>
            </a:xfrm>
          </p:grpSpPr>
          <p:cxnSp>
            <p:nvCxnSpPr>
              <p:cNvPr id="724" name="Conector de seta reta 94"/>
              <p:cNvCxnSpPr/>
              <p:nvPr/>
            </p:nvCxnSpPr>
            <p:spPr>
              <a:xfrm>
                <a:off x="7420680" y="4293720"/>
                <a:ext cx="1080" cy="226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725" name="Conector reto 95"/>
              <p:cNvSpPr/>
              <p:nvPr/>
            </p:nvSpPr>
            <p:spPr>
              <a:xfrm>
                <a:off x="6800760" y="4309560"/>
                <a:ext cx="620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Grupo 96"/>
            <p:cNvGrpSpPr/>
            <p:nvPr/>
          </p:nvGrpSpPr>
          <p:grpSpPr>
            <a:xfrm>
              <a:off x="6827760" y="5244480"/>
              <a:ext cx="620640" cy="216360"/>
              <a:chOff x="6827760" y="5244480"/>
              <a:chExt cx="620640" cy="216360"/>
            </a:xfrm>
          </p:grpSpPr>
          <p:cxnSp>
            <p:nvCxnSpPr>
              <p:cNvPr id="727" name="Conector de seta reta 97"/>
              <p:cNvCxnSpPr/>
              <p:nvPr/>
            </p:nvCxnSpPr>
            <p:spPr>
              <a:xfrm flipV="1">
                <a:off x="7447680" y="5244480"/>
                <a:ext cx="1080" cy="2167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728" name="Conector reto 98"/>
              <p:cNvSpPr/>
              <p:nvPr/>
            </p:nvSpPr>
            <p:spPr>
              <a:xfrm>
                <a:off x="6827760" y="5445000"/>
                <a:ext cx="620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Box 4"/>
          <p:cNvSpPr/>
          <p:nvPr/>
        </p:nvSpPr>
        <p:spPr>
          <a:xfrm>
            <a:off x="1042920" y="1065240"/>
            <a:ext cx="383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OS INCENTIVOS FISC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tângulo 9"/>
          <p:cNvSpPr/>
          <p:nvPr/>
        </p:nvSpPr>
        <p:spPr>
          <a:xfrm>
            <a:off x="1042920" y="1773360"/>
            <a:ext cx="6842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centivos fiscais são instrumentos utilizados pelo governo para estimular atividades específicas, por prazo determinado (projet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xistem incentivos que facilitam a transferência de recursos para atividades relacionadas ao Terceiro Setor, com o objetivo de fortalecer o tecido social do Paí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sses incentivos são importantes ferramentas para a consolidação da sustentação-financeira das entidades sem fins lucrat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CaixaDeTexto 3"/>
          <p:cNvSpPr/>
          <p:nvPr/>
        </p:nvSpPr>
        <p:spPr>
          <a:xfrm>
            <a:off x="749160" y="1484280"/>
            <a:ext cx="7920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Qual sua missão enquanto entidade desporti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Quais seus objetivos de curto, médio e longo prazo (planejamen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Qual é sua capacidade de ação própria (condição física, material, humana e financeir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Histórico de atuação (realizaçõe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Suas alianças estratégicas (parceria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Seu papel no cenário desportivo (local. Regional, estadual, nacional, internacion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Seu segmento de atuação (entidade de administração ou prática desportiv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Seu foco quanto a natureza e finalidade do desporto (educacional, participativo ou rendimen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Modalidade e faixa sócioeconômica que deseja alcanç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tângulo 2"/>
          <p:cNvSpPr/>
          <p:nvPr/>
        </p:nvSpPr>
        <p:spPr>
          <a:xfrm>
            <a:off x="749160" y="907920"/>
            <a:ext cx="76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Calibri"/>
              </a:rPr>
              <a:t>PROPONEN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upo 2"/>
          <p:cNvGrpSpPr/>
          <p:nvPr/>
        </p:nvGrpSpPr>
        <p:grpSpPr>
          <a:xfrm>
            <a:off x="6480" y="15840"/>
            <a:ext cx="9137520" cy="6858000"/>
            <a:chOff x="6480" y="15840"/>
            <a:chExt cx="9137520" cy="6858000"/>
          </a:xfrm>
        </p:grpSpPr>
        <p:pic>
          <p:nvPicPr>
            <p:cNvPr id="732" name="Picture 2" descr="E:\HERNANDES AÇÕES ESPORTIVA\FUNDO DE TELA HERNANDES\fundo de tela power point Hernandes - fechamento - sem nome.jpg"/>
            <p:cNvPicPr/>
            <p:nvPr/>
          </p:nvPicPr>
          <p:blipFill>
            <a:blip r:embed="rId1"/>
            <a:stretch/>
          </p:blipFill>
          <p:spPr>
            <a:xfrm>
              <a:off x="6480" y="15840"/>
              <a:ext cx="91375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CaixaDeTexto 6"/>
            <p:cNvSpPr/>
            <p:nvPr/>
          </p:nvSpPr>
          <p:spPr>
            <a:xfrm>
              <a:off x="539640" y="3085920"/>
              <a:ext cx="424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Vanira Hernandes de Sou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Gestora de Proje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666699"/>
                  </a:solidFill>
                  <a:uFillTx/>
                  <a:latin typeface="Calibri"/>
                  <a:ea typeface="Calibri"/>
                  <a:hlinkClick r:id="rId2"/>
                </a:rPr>
                <a:t>vanira@hernandesacoesesportivas.com.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|15. 98117-3637 | 11. 98238-3907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CaixaDeTexto 8"/>
            <p:cNvSpPr/>
            <p:nvPr/>
          </p:nvSpPr>
          <p:spPr>
            <a:xfrm>
              <a:off x="4637880" y="2997000"/>
              <a:ext cx="4392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Vânia Hernandes de Sou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a. Pedagógia e Psicólogia do Espo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 u="sng">
                  <a:solidFill>
                    <a:srgbClr val="666699"/>
                  </a:solidFill>
                  <a:uFillTx/>
                  <a:latin typeface="Calibri"/>
                  <a:ea typeface="Calibri"/>
                  <a:hlinkClick r:id="rId3"/>
                </a:rPr>
                <a:t>vania-hernandes@uol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 u="sng">
                  <a:solidFill>
                    <a:srgbClr val="666699"/>
                  </a:solidFill>
                  <a:uFillTx/>
                  <a:latin typeface="Calibri"/>
                  <a:ea typeface="Calibri"/>
                  <a:hlinkClick r:id="rId4"/>
                </a:rPr>
                <a:t>http://lattes.cnpq.br/5060154719055619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15. 98117-90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tângulo 7"/>
            <p:cNvSpPr/>
            <p:nvPr/>
          </p:nvSpPr>
          <p:spPr>
            <a:xfrm>
              <a:off x="3643200" y="5494320"/>
              <a:ext cx="1944720" cy="288720"/>
            </a:xfrm>
            <a:prstGeom prst="rect">
              <a:avLst/>
            </a:prstGeom>
            <a:solidFill>
              <a:srgbClr val="e1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7f7f7f"/>
                  </a:solidFill>
                  <a:latin typeface="Arial"/>
                </a:rPr>
                <a:t>11. 2338-504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CaixaDeTexto 1"/>
            <p:cNvSpPr/>
            <p:nvPr/>
          </p:nvSpPr>
          <p:spPr>
            <a:xfrm>
              <a:off x="539640" y="5950080"/>
              <a:ext cx="8280360" cy="580680"/>
            </a:xfrm>
            <a:prstGeom prst="rect">
              <a:avLst/>
            </a:prstGeom>
            <a:solidFill>
              <a:srgbClr val="e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7f7f7f"/>
                  </a:solidFill>
                  <a:latin typeface="Arial"/>
                </a:rPr>
                <a:t>Atendimento: Avenida Vereador Abel Ferreira nº 1950 | Vila Regente Feijó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7f7f7f"/>
                  </a:solidFill>
                  <a:latin typeface="Arial"/>
                </a:rPr>
                <a:t>São Paulo – SP | CEP: 03340-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Box 4"/>
          <p:cNvSpPr/>
          <p:nvPr/>
        </p:nvSpPr>
        <p:spPr>
          <a:xfrm>
            <a:off x="806400" y="1125360"/>
            <a:ext cx="383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OS INCENTIVOS FISC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tângulo 9"/>
          <p:cNvSpPr/>
          <p:nvPr/>
        </p:nvSpPr>
        <p:spPr>
          <a:xfrm>
            <a:off x="806400" y="1989000"/>
            <a:ext cx="741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Governo adotou o mecanismo de renúncia ﬁscal para incentivar a cultura, o esporte e o desenvolvimento social. Ou seja, o Governo abre mão da arrecadação de parte dos impostos (PF e PJ) para destinar a projetos relevantes e capazes de promover o desenvolvimento da socie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 isso, as empresas têm a oportunidade de investir uma parte dos impostos para projetos culturais, esportivos e sociais à sua escolh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582480" y="1916280"/>
            <a:ext cx="7905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Lei nº 8.313/1991  - Lei Rouan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Legislações estaduais – ICM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Convênio SINCO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Convênio Esporte Social - Secretaria de Esportes Estado de São Pau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Convênio de Projetos e Eventos Esportivos Entidades e Prefeitu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Projetos pelo Comitê Brasileiro de Clubes na Formação de Atletas Olímpicos e Paraolímpicos Lei nº  9.615/98 - (0,5% de toda a verba arrecadada nos concursos de prognósticos feder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2"/>
          <p:cNvSpPr/>
          <p:nvPr/>
        </p:nvSpPr>
        <p:spPr>
          <a:xfrm>
            <a:off x="722160" y="1085760"/>
            <a:ext cx="762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POSSIBILIDADES DE APOIO FOMENTADOS COM RECURSOS DAS LEIS DE INCEN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tângulo 1"/>
          <p:cNvSpPr/>
          <p:nvPr/>
        </p:nvSpPr>
        <p:spPr>
          <a:xfrm>
            <a:off x="617400" y="1628640"/>
            <a:ext cx="7721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Objetivo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Usar parte do imposto recolhido no Estado e investir em várias modalidades esportivas, inclusão social e na formação de novos atletas, contemplando modalidades tanto individuais quanto coletiv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Segmentos Esportiv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Gestão, Formação Desportiva, Participativa, Rendimento, Educacional, Sócio  Desportiva e de infraestru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Regulador</a:t>
            </a:r>
            <a:r>
              <a:rPr b="0" i="1" lang="pt-B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cretaria de Esporte, Lazer e Juventude do Estado de São Pa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Quem pode receber incentivo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stituições sem fins lucrativos que tenham natureza desportiv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e no mínimo 3 (três) ano em funcionamento, que  captará  os recursos  e  fará  a  gestão do projeto,  sendo  indelegável  sua responsabilidade pela apresentação, execução  e  prestação de co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tângulo 2"/>
          <p:cNvSpPr/>
          <p:nvPr/>
        </p:nvSpPr>
        <p:spPr>
          <a:xfrm>
            <a:off x="617400" y="101268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LEI PAULISTA DE INCENTIVO AO ESPORTE PIE -ICMS (Lei nº 13.918/09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Imagem 5" descr=""/>
          <p:cNvPicPr/>
          <p:nvPr/>
        </p:nvPicPr>
        <p:blipFill>
          <a:blip r:embed="rId1"/>
          <a:stretch/>
        </p:blipFill>
        <p:spPr>
          <a:xfrm>
            <a:off x="6948360" y="125280"/>
            <a:ext cx="20448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tângulo 1"/>
          <p:cNvSpPr/>
          <p:nvPr/>
        </p:nvSpPr>
        <p:spPr>
          <a:xfrm>
            <a:off x="617400" y="1628640"/>
            <a:ext cx="8131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Quantidade de Projetos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Cada proponente poderá apresentar até 03 projetos, desde que estes somados não ultrapassem o valor global de 60.901 UFE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mo funciona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Abatimento de 100% do valor incentivado até o limite de 3%* do ICMS devido pela Pessoa Jurídica.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Ex.: Se uma empresa paga R$ 5 milhões de ICMS por mês ao governo, poderá destinar R$ 150 mil para incentivar e patrocinar mensalmente um projeto esportivo, obtendo as contrapartidas de exposição de um patrocínio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*Conforme tabela decrescente de alíquotas, dependendo do montante do ICMS à recol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Calibri"/>
              </a:rPr>
              <a:t>**Não compete com outros incen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tângulo 2"/>
          <p:cNvSpPr/>
          <p:nvPr/>
        </p:nvSpPr>
        <p:spPr>
          <a:xfrm>
            <a:off x="617400" y="101268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LEI PAULISTA DE INCENTIVO AO ESPORTE PIE -ICMS (Lei nº 13.918/09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Imagem 5" descr=""/>
          <p:cNvPicPr/>
          <p:nvPr/>
        </p:nvPicPr>
        <p:blipFill>
          <a:blip r:embed="rId1"/>
          <a:stretch/>
        </p:blipFill>
        <p:spPr>
          <a:xfrm>
            <a:off x="6948360" y="125280"/>
            <a:ext cx="20448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4"/>
          <p:cNvSpPr/>
          <p:nvPr/>
        </p:nvSpPr>
        <p:spPr>
          <a:xfrm>
            <a:off x="515880" y="944640"/>
            <a:ext cx="84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3f"/>
                </a:solidFill>
                <a:latin typeface="Calibri"/>
              </a:rPr>
              <a:t>LEI FEDERAL DE INCENTIVO AO ESPORTE  (LEI Nº 8.313/91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tângulo 9"/>
          <p:cNvSpPr/>
          <p:nvPr/>
        </p:nvSpPr>
        <p:spPr>
          <a:xfrm>
            <a:off x="500040" y="1773360"/>
            <a:ext cx="8070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Objetiv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Projetos desportivos e paradespor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gulador: Ministério do Esp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Quem pode receber incentiv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Instituições sem fins lucrativos que tenham natureza desportiva com CNPJ constituído há 1(um) 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Como funcion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Abatimento de 100% do valor incentivado até o limite de 1% do Imposto de Renda devido pela Pessoa Jurídica (tributada em Lucro Real) e 6% pela Pessoa Fís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Empresas em potencial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Multinacionais, conglomerados dos setores bancário, industrial, de transporte aéreo e empresas de telecomunic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tângulo 4"/>
          <p:cNvSpPr/>
          <p:nvPr/>
        </p:nvSpPr>
        <p:spPr>
          <a:xfrm>
            <a:off x="684360" y="1700280"/>
            <a:ext cx="792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A Lei de Incentivo ao Esporte Federal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ermite que patrocínios e doações para a realização de projetos desportivos sejam descontados do imposto de renda dev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Segmentos Esportivo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 Gestão, Formação Desportiva, Participativa, Rendimento, Educacional, Sócio  Desportiva e de infraestru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Quantidade de Projetos: </a:t>
            </a: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A Lei limita a 6 (seis)  projetos por ano,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      </a:t>
            </a: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um mesmo pro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tângulo 2"/>
          <p:cNvSpPr/>
          <p:nvPr/>
        </p:nvSpPr>
        <p:spPr>
          <a:xfrm>
            <a:off x="684360" y="92376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LEI FEDERAL DE INCENTIVO AO ESPORTE  (Lei Nº 8.313/91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2" descr="https://esportelegal.files.wordpress.com/2012/07/logoleiincentivom.png"/>
          <p:cNvPicPr/>
          <p:nvPr/>
        </p:nvPicPr>
        <p:blipFill>
          <a:blip r:embed="rId1"/>
          <a:stretch/>
        </p:blipFill>
        <p:spPr>
          <a:xfrm>
            <a:off x="8028000" y="55440"/>
            <a:ext cx="1008000" cy="10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tângulo 9"/>
          <p:cNvSpPr/>
          <p:nvPr/>
        </p:nvSpPr>
        <p:spPr>
          <a:xfrm>
            <a:off x="633240" y="1700280"/>
            <a:ext cx="7456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s pessoas jurídicas podem utilizar dos benefícios fiscais  nas doações para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) para entidades civis, sem fins lucrativos, de Utilidade Pública Federal e qualificadas como OSCIPs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b) para instituições de ensino e pesquisa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) destinadas a projetos culturais, artísticos e audiovisuais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) para os Fundos dos Direitos da Criança e do Adolescente (feder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staduais e municipais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) destinadas a projetos desportiv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tângulo 1"/>
          <p:cNvSpPr/>
          <p:nvPr/>
        </p:nvSpPr>
        <p:spPr>
          <a:xfrm>
            <a:off x="633240" y="104616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d"/>
                </a:solidFill>
                <a:latin typeface="Calibri"/>
              </a:rPr>
              <a:t>PATROCÍNIO DE PESSOA JURÍDICA PARA PROJETOS PELA LEI FED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2" descr="https://esportelegal.files.wordpress.com/2012/07/logoleiincentivom.png"/>
          <p:cNvPicPr/>
          <p:nvPr/>
        </p:nvPicPr>
        <p:blipFill>
          <a:blip r:embed="rId1"/>
          <a:stretch/>
        </p:blipFill>
        <p:spPr>
          <a:xfrm>
            <a:off x="8028000" y="44280"/>
            <a:ext cx="1008000" cy="10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2:52:57Z</dcterms:created>
  <dc:creator>Vanira</dc:creator>
  <dc:description/>
  <dc:language>en-US</dc:language>
  <cp:lastModifiedBy>Celso Cordeiro</cp:lastModifiedBy>
  <cp:lastPrinted>2017-07-20T11:00:00Z</cp:lastPrinted>
  <dcterms:modified xsi:type="dcterms:W3CDTF">2017-08-24T18:37:54Z</dcterms:modified>
  <cp:revision>617</cp:revision>
  <dc:subject/>
  <dc:title>Slide 1</dc:title>
</cp:coreProperties>
</file>